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A95F7-9717-4644-8C70-9B24032EB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2309A-38E4-4236-8533-367562A16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29700-3308-4666-8AF0-07F60EAF8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BFC3E-2799-4DF9-9483-B7D327D46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5B916-9101-45A0-9CF0-01E1DD1D7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F6C28-B942-4AA1-BDBD-1A020DD86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5513A-FFBB-4D7A-A25B-D5CCE1766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E154F-85D2-4D56-98D1-6161280A1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A5BE9-BF1B-4085-8670-877197405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AB56D-4ADC-4299-A1F6-276CEDC32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15387-2F88-4C15-837A-C7F50317D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0B9C5-6CD9-49B5-83EE-DC054C298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6AF9B-B507-4F20-A70C-7711CE052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FBAEB-99AE-41A4-A036-1A175A1F9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9893F-CDBC-45DD-9591-A167B90B3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02FE7-4494-4C10-9CAF-AA3FC8F5A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D8DAE-EBAF-4D74-AE01-3F0C20700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49CB3-AE4A-43D2-8948-945EC7297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8F944-D8F2-44B2-AA73-3C72D844E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59C36-370B-4699-9172-F320B7D53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A96F2-3CB0-461F-AA4F-FF33463F3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FB0D1-C117-4C3F-BFBF-26339CA18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AA1E0-2CE7-49E1-AB15-A886D393C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FEA5D-1910-4F8E-B0C2-B296C6F2F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0C888-88BC-4F93-A4D1-737D13D65AC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538C1-80A3-40B3-BF8F-F316CA56287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rotocols and Architectur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(Fragmentation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locks are of bound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 messages may be lar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ckets may be smal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litting larger blocks into smaller ones is segmentation (or fragmentation in TCP/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blocks (cells) are 53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thernet blocks (frames) are up to 1526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points and restart/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Fragment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quitable access to network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er buffer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he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interrupts at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processing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onnection interruption and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s used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0" t="0" r="-385" b="21783"/>
          <a:stretch/>
        </p:blipFill>
        <p:spPr>
          <a:xfrm>
            <a:off x="838080" y="1752480"/>
            <a:ext cx="7239240" cy="49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traverse different paths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tially number PDUs to allow for ord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by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amount or rate of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iding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ed at application as well as network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d against loss or dam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inserts error detecting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checks these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K, ac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error, discard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nowledge in given time, re-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ed at various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dentifi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in architecture at which entity is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que address for each end system (computer) and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evel addres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or internet address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rvice access point or N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within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 number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access point or 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rcRect l="0" t="0" r="0" b="7467"/>
          <a:stretch/>
        </p:blipFill>
        <p:spPr>
          <a:xfrm>
            <a:off x="1295280" y="1752480"/>
            <a:ext cx="640080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or 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olithic or 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 or 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or non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nonambigu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lobal address identifies unique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only one system with address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applic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possible at any system (any address) to identify any other system (address) by  the global address of the other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X identifies that system from anywhere on th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MAC address on IEEE 802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Identifi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data transfer (virtual circuit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cate a connection name during the transfer ph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 as connection identifiers are shorter than global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may be fixed and identified by connection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may want multiple connections -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an address refers to a singl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one machine or per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ll entities with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 machines or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 subset of the entities 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me machines or a group of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ing multiple connections on one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ping of multiple connections at one level to a single connection at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ing a number of connections on one fiber optic c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ing or bonding ISDN lines to gain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acceptable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acceptabl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restri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- Th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yer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erforms a subset of the required communicatio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relies on the next lower layer to perform more primitive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rovides services to the next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one layer should not require changes in other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OSI Environ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rcRect l="0" t="0" r="0" b="4576"/>
          <a:stretch/>
        </p:blipFill>
        <p:spPr>
          <a:xfrm>
            <a:off x="990720" y="1828800"/>
            <a:ext cx="689616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as Framework for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rcRect l="0" t="0" r="0" b="7484"/>
          <a:stretch/>
        </p:blipFill>
        <p:spPr>
          <a:xfrm>
            <a:off x="1195560" y="1771560"/>
            <a:ext cx="6752880" cy="44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yer Specific 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rcRect l="0" t="0" r="0" b="15461"/>
          <a:stretch/>
        </p:blipFill>
        <p:spPr>
          <a:xfrm>
            <a:off x="1523880" y="1752480"/>
            <a:ext cx="6305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ments of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es between the same layer on two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volve different operating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specification must be prec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mat of data un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ntics of all fiel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able sequence of PCU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description of what is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d by S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 or Indir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point to point link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multi-point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pass without intervening active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ed networks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s or intern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 depend on oth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interface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of activating, maintaining and deactivating a reliabl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may assume error fre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of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do not need to know about underlying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needed on direc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of data between end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f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uplic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of dialogues betwee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alogue discip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 and 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ompr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for applications to access OSI enviro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rcRect l="0" t="0" r="0" b="9967"/>
          <a:stretch/>
        </p:blipFill>
        <p:spPr>
          <a:xfrm>
            <a:off x="1143000" y="1447920"/>
            <a:ext cx="680076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minant commercial 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d and extensively used before OS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research funded US Department of Defe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rocesses o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or transport layer (TCP/UDP/…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transfer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clude reliability mechanism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des detail of underlying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Layer (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interface between end system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rate and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s in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rcRect l="0" t="0" r="0" b="16221"/>
          <a:stretch/>
        </p:blipFill>
        <p:spPr>
          <a:xfrm>
            <a:off x="685800" y="1581120"/>
            <a:ext cx="767700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me Protocols in TCP/IP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rcRect l="0" t="0" r="0" b="9268"/>
          <a:stretch/>
        </p:blipFill>
        <p:spPr>
          <a:xfrm>
            <a:off x="533520" y="131436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Internetworking with TCP/IP volum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and Stevens,D. Internetworking with TCP/IP volume II and volume III, Prentice 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sall, F&gt; Data Communications, Computer Networks and Open Systems, Addison Wesl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nolithic or Structu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is a complex t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mplex for single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 design breaks down problem into smaller un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ed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mmetric or Asymmetr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e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/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 or Non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standard protocols built for specific computers and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 sources and L receivers leads to K*L protocols and 2*K*L implemen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mmon protocol used, K + L implementations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Standard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4550"/>
          <a:stretch/>
        </p:blipFill>
        <p:spPr>
          <a:xfrm>
            <a:off x="1066680" y="1752480"/>
            <a:ext cx="708660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assme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rcRect l="0" t="0" r="0" b="22127"/>
          <a:stretch/>
        </p:blipFill>
        <p:spPr>
          <a:xfrm>
            <a:off x="2666880" y="3502080"/>
            <a:ext cx="6477120" cy="32875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 of control information t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-detect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4T08:45:06Z</dcterms:created>
  <dc:creator>Adrian &amp; Wendy</dc:creator>
  <dc:description/>
  <dc:language>en-US</dc:language>
  <cp:lastModifiedBy>Adrian J Pullin</cp:lastModifiedBy>
  <dcterms:modified xsi:type="dcterms:W3CDTF">1999-10-13T14:41:03Z</dcterms:modified>
  <cp:revision>19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